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2B6-F1B7-4F89-AD68-BC08924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A7A-1804-4195-9525-F6AB2299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BEF-262D-4265-8884-78E0D6EA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084-BA6D-4194-8B69-3621A8DC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2AE3-34E7-4640-8CD6-5E761C21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0797-FDAC-409D-842B-904AE3B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8F6-CD05-4A25-AFF2-5382A57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C319-D35E-4268-B8C3-E4794BEF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0C9B-BEC2-4405-8692-3F74260A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CC07-F79A-45C1-A90C-8311D242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D2A1-873D-4B4F-8BA8-A839EE6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49A-A4DF-46AA-99E6-12D0F7D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6882-6F7C-468B-9C1A-24E4EA59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C0ED-EC27-4A17-8EF9-EB5591F5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C65C-E051-45F4-AED1-FA4C578C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E9CE-046E-4F45-A452-36536D3B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95D3-CE1E-4D07-93B3-D9BD2DC7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E8C-091E-4EFF-A655-226B3253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767-1EEA-4609-B21C-BDF12B0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F6A-2FE8-4E0D-8D15-25C3BDE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063-19A9-4FC5-AA00-B14EDDF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03A-27F3-4566-A6FD-C0B5B7B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ECC-3BD4-4E41-B2D0-C89EA91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906-3C89-406A-97F8-5E16F50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22D2-9F2C-453D-BCAF-04D08F491D99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214E4-DDD1-463F-8852-FA88FF19E5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A3871-8612-4149-84A0-7E0D62DA5F7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97D17-449A-42A1-80AE-91B052F8773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43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 decrease # of pro-Jeffersonians, a series of oppressive laws were passed that aimed at "aliens", or foreigners who came to America and supported Jeffers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aised the residence requirements from 5 years to 14 year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ted that President could deport or jail foreigners in times of peace or hostiliti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he Sedition Act -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yone who impeded the policies of the government or falsely defamed its officials would be liable to a heavy fine and imprisonm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efferson's Kentucky resolution and Madison's Virginia resolution concluded that the states had the right to refuse laws created by the government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ter used by southerners to support nullific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irkenres"/>
          <p:cNvPicPr/>
          <p:nvPr/>
        </p:nvPicPr>
        <p:blipFill>
          <a:blip r:embed="rId3"/>
          <a:stretch/>
        </p:blipFill>
        <p:spPr>
          <a:xfrm>
            <a:off x="7101000" y="3828960"/>
            <a:ext cx="2043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deralis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ed strong central gover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vernment should support private enterpri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pported Brit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mocratic-Republican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ak central govern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s’ righ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effersonian Democratic-Republicans= get into the French and British War; fight for Franc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Federalists were op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Neutrality Proclamation of 1793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tated US neutrality from Britain-France war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ked by Hamilt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itizen Ge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 flipH="1">
            <a:off x="7707240" y="4863960"/>
            <a:ext cx="1222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retained forts on US soi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effersonians felt that America should fight Britain in defense of America's libertie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Federalists opposed b/c hopes for economic development depended on trade with Brit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ttle of Fallen Timb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5502240" y="4157640"/>
            <a:ext cx="36417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y’s Treaty- British evacuate posts on US soi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 pay debts owed to Brit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Pinckney’s Treat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Spain granted Americans free navigation of Mississippi Ri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435400" y="3630600"/>
            <a:ext cx="4519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ft office 179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ned against permanent allia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jor accomplishment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2031840" y="3429000"/>
            <a:ext cx="50803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our true policy to steer clear of permanent alliances with any portion of the foreign world; so far, I mean, as we are now at liberty to do it; for let me not be understood as capable of patronizing infidelity to existing engagements. I hold the maxim no less applicable to public than to private affairs, that honesty is always the best policy. I repeat it, therefore, let those engagements be observed in their genuine sense. But, in my opinion, it is unnecessary and would be unwise to extend them.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ohn Adams defeats Thomas Jefferson to become president in 1797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Jefferson becomes vice president as runner-up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5892840" y="3340080"/>
            <a:ext cx="27939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nch angered by Jay’s Trea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YZ Aff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ults: (preparing for war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 creates Navy Depart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anded nav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established Marine Corp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116680" y="3287880"/>
            <a:ext cx="35701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apoleon Bonaparte- dictator of Fra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vention of 1800- signed w/ John Ja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nulled alliance between France and America that had existed since the Revolutionary W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lled for France to return captured American ship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U.S. was to pay damage claims of American shippers (caused by France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22:16:20Z</dcterms:created>
  <dc:creator>Emily Johnson</dc:creator>
  <dc:description/>
  <dc:language>en-US</dc:language>
  <cp:lastModifiedBy>emily.johnson</cp:lastModifiedBy>
  <dcterms:modified xsi:type="dcterms:W3CDTF">2012-10-11T15:13:49Z</dcterms:modified>
  <cp:revision>4</cp:revision>
  <dc:subject/>
  <dc:title>Ch.10 part 2: launching the new ship of state</dc:title>
</cp:coreProperties>
</file>